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134C-B766-4CA3-B0AE-07081A07B9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BCEE-9B1A-4373-8D74-552618A12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BB03-BC0A-47C9-89DD-71B467E5DE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B554-C13A-4951-96BC-C4FDF23B6D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3B60-2491-41D8-9177-9EF2AF33E9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15E3-F94C-47E9-AF46-52B2B159DD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1470-0BA3-45A8-A07C-539FBEADAA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219B-ED35-4040-9C7E-A0A37A73CD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49EA-219D-494B-8E76-59839CEF9F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A6A1-D38A-4E35-9BE8-9345F8948C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6E79-9C55-42F3-B4DD-4EF1D3BF96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33E2-09D4-4B9B-9F67-CF0B67B228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D323-EA2E-4183-824E-F7CE24E9CB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6841-2FDB-4930-AF66-2A10FB1F33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8FAD-DB2F-494B-B1AE-3D4478EF7D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80A0-D798-4143-8984-E8C4933387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03AE-6BDC-43F0-B4B1-69E894C1CE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F0CC-2372-4CAA-B5AC-3EAA877BE7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B5A3-8C50-423D-A19E-819C0EDB1C7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DA2C-1030-476B-B926-9690F8800F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2A3F-9092-4580-931D-F3C895013D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Français 3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adjectifs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2" descr="C:\Documents and Settings\Michael\Local Settings\Temporary Internet Files\Content.IE5\2303URME\MC900363570[1].wmf"/>
          <p:cNvPicPr/>
          <p:nvPr/>
        </p:nvPicPr>
        <p:blipFill>
          <a:blip r:embed="rId1"/>
          <a:stretch/>
        </p:blipFill>
        <p:spPr>
          <a:xfrm>
            <a:off x="228600" y="3124080"/>
            <a:ext cx="2717640" cy="304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Michael\Local Settings\Temporary Internet Files\Content.IE5\T3QP2G2F\MC900022823[1].wmf"/>
          <p:cNvPicPr/>
          <p:nvPr/>
        </p:nvPicPr>
        <p:blipFill>
          <a:blip r:embed="rId2"/>
          <a:stretch/>
        </p:blipFill>
        <p:spPr>
          <a:xfrm>
            <a:off x="5867280" y="4267080"/>
            <a:ext cx="3048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sportif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45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port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por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port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por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52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ym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ym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Pratiqu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Context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: M. &amp; Mme. Diffère sont un couple bizarre. Mme. Diffère est l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opposée de son mari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Tâche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dites comment est M. Diffère basé sur la description de sa femm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3429000" y="4317840"/>
            <a:ext cx="3465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Modèl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di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diligent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paresseus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vi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moch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rand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timid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intel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sympa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Les adjectifs sont utilisés (used) pour décrire quelqu’un ou quelque chos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Ex. grand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ign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intelligen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énér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433520" y="1447920"/>
            <a:ext cx="7480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vi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2133720" y="2421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ei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5638680" y="24242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moch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2133720" y="2406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5653080" y="23954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rand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2057400" y="2419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5519880" y="24098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t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timid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2133720" y="2421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5410080" y="24242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v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intel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1676520" y="24192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lli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5715000" y="24051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ê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sympa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2122560" y="24098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5316480" y="24098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ch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énér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8" name="TextBox 4"/>
          <p:cNvSpPr/>
          <p:nvPr/>
        </p:nvSpPr>
        <p:spPr>
          <a:xfrm>
            <a:off x="1828800" y="24098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éné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5576760" y="24098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égoï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8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cc99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0"/>
          <a:ext cx="9144000" cy="6931080"/>
        </p:xfrm>
        <a:graphic>
          <a:graphicData uri="http://schemas.openxmlformats.org/drawingml/2006/table">
            <a:tbl>
              <a:tblPr/>
              <a:tblGrid>
                <a:gridCol w="2338560"/>
                <a:gridCol w="2306520"/>
                <a:gridCol w="1514520"/>
                <a:gridCol w="1514520"/>
                <a:gridCol w="1469880"/>
              </a:tblGrid>
              <a:tr h="6224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Rockwell"/>
                          <a:ea typeface="Arial"/>
                        </a:rPr>
                        <a:t>Les Adjectifs - BAN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 - C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 - Vo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min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min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ri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ri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e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uve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uv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332"/>
          <p:cNvSpPr/>
          <p:nvPr/>
        </p:nvSpPr>
        <p:spPr>
          <a:xfrm>
            <a:off x="243828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33"/>
          <p:cNvSpPr/>
          <p:nvPr/>
        </p:nvSpPr>
        <p:spPr>
          <a:xfrm>
            <a:off x="434340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34"/>
          <p:cNvSpPr/>
          <p:nvPr/>
        </p:nvSpPr>
        <p:spPr>
          <a:xfrm>
            <a:off x="586728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35"/>
          <p:cNvSpPr/>
          <p:nvPr/>
        </p:nvSpPr>
        <p:spPr>
          <a:xfrm>
            <a:off x="7315200" y="1889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36"/>
          <p:cNvSpPr/>
          <p:nvPr/>
        </p:nvSpPr>
        <p:spPr>
          <a:xfrm>
            <a:off x="243828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37"/>
          <p:cNvSpPr/>
          <p:nvPr/>
        </p:nvSpPr>
        <p:spPr>
          <a:xfrm>
            <a:off x="434340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38"/>
          <p:cNvSpPr/>
          <p:nvPr/>
        </p:nvSpPr>
        <p:spPr>
          <a:xfrm>
            <a:off x="586728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39"/>
          <p:cNvSpPr/>
          <p:nvPr/>
        </p:nvSpPr>
        <p:spPr>
          <a:xfrm>
            <a:off x="7391520" y="249876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40"/>
          <p:cNvSpPr/>
          <p:nvPr/>
        </p:nvSpPr>
        <p:spPr>
          <a:xfrm>
            <a:off x="243828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41"/>
          <p:cNvSpPr/>
          <p:nvPr/>
        </p:nvSpPr>
        <p:spPr>
          <a:xfrm>
            <a:off x="434340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42"/>
          <p:cNvSpPr/>
          <p:nvPr/>
        </p:nvSpPr>
        <p:spPr>
          <a:xfrm>
            <a:off x="586728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43"/>
          <p:cNvSpPr/>
          <p:nvPr/>
        </p:nvSpPr>
        <p:spPr>
          <a:xfrm>
            <a:off x="7391520" y="30481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44"/>
          <p:cNvSpPr/>
          <p:nvPr/>
        </p:nvSpPr>
        <p:spPr>
          <a:xfrm>
            <a:off x="2438280" y="3641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45"/>
          <p:cNvSpPr/>
          <p:nvPr/>
        </p:nvSpPr>
        <p:spPr>
          <a:xfrm>
            <a:off x="4343400" y="3657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46"/>
          <p:cNvSpPr/>
          <p:nvPr/>
        </p:nvSpPr>
        <p:spPr>
          <a:xfrm>
            <a:off x="5867280" y="3657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47"/>
          <p:cNvSpPr/>
          <p:nvPr/>
        </p:nvSpPr>
        <p:spPr>
          <a:xfrm>
            <a:off x="73915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48"/>
          <p:cNvSpPr/>
          <p:nvPr/>
        </p:nvSpPr>
        <p:spPr>
          <a:xfrm>
            <a:off x="2438280" y="4251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49"/>
          <p:cNvSpPr/>
          <p:nvPr/>
        </p:nvSpPr>
        <p:spPr>
          <a:xfrm>
            <a:off x="4343400" y="4267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50"/>
          <p:cNvSpPr/>
          <p:nvPr/>
        </p:nvSpPr>
        <p:spPr>
          <a:xfrm>
            <a:off x="5867280" y="4267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51"/>
          <p:cNvSpPr/>
          <p:nvPr/>
        </p:nvSpPr>
        <p:spPr>
          <a:xfrm>
            <a:off x="7391520" y="42670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52"/>
          <p:cNvSpPr/>
          <p:nvPr/>
        </p:nvSpPr>
        <p:spPr>
          <a:xfrm>
            <a:off x="243828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53"/>
          <p:cNvSpPr/>
          <p:nvPr/>
        </p:nvSpPr>
        <p:spPr>
          <a:xfrm>
            <a:off x="434340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54"/>
          <p:cNvSpPr/>
          <p:nvPr/>
        </p:nvSpPr>
        <p:spPr>
          <a:xfrm>
            <a:off x="586728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55"/>
          <p:cNvSpPr/>
          <p:nvPr/>
        </p:nvSpPr>
        <p:spPr>
          <a:xfrm>
            <a:off x="7391520" y="4800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56"/>
          <p:cNvSpPr/>
          <p:nvPr/>
        </p:nvSpPr>
        <p:spPr>
          <a:xfrm>
            <a:off x="243828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57"/>
          <p:cNvSpPr/>
          <p:nvPr/>
        </p:nvSpPr>
        <p:spPr>
          <a:xfrm>
            <a:off x="434340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58"/>
          <p:cNvSpPr/>
          <p:nvPr/>
        </p:nvSpPr>
        <p:spPr>
          <a:xfrm>
            <a:off x="586728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59"/>
          <p:cNvSpPr/>
          <p:nvPr/>
        </p:nvSpPr>
        <p:spPr>
          <a:xfrm>
            <a:off x="7391520" y="5394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60"/>
          <p:cNvSpPr/>
          <p:nvPr/>
        </p:nvSpPr>
        <p:spPr>
          <a:xfrm>
            <a:off x="243828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61"/>
          <p:cNvSpPr/>
          <p:nvPr/>
        </p:nvSpPr>
        <p:spPr>
          <a:xfrm>
            <a:off x="434340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2"/>
          <p:cNvSpPr/>
          <p:nvPr/>
        </p:nvSpPr>
        <p:spPr>
          <a:xfrm>
            <a:off x="586728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63"/>
          <p:cNvSpPr/>
          <p:nvPr/>
        </p:nvSpPr>
        <p:spPr>
          <a:xfrm>
            <a:off x="7391520" y="5943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4"/>
          <p:cNvSpPr/>
          <p:nvPr/>
        </p:nvSpPr>
        <p:spPr>
          <a:xfrm>
            <a:off x="243828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65"/>
          <p:cNvSpPr/>
          <p:nvPr/>
        </p:nvSpPr>
        <p:spPr>
          <a:xfrm>
            <a:off x="434340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66"/>
          <p:cNvSpPr/>
          <p:nvPr/>
        </p:nvSpPr>
        <p:spPr>
          <a:xfrm>
            <a:off x="586728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67"/>
          <p:cNvSpPr/>
          <p:nvPr/>
        </p:nvSpPr>
        <p:spPr>
          <a:xfrm>
            <a:off x="7391520" y="64612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14619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ais pour tous les adjectifs, il faut les accorder en genre et nombr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Genre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Times New Roman"/>
              </a:rPr>
              <a:t>masculin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cc"/>
                </a:solidFill>
                <a:latin typeface="Times New Roman"/>
              </a:rPr>
              <a:t>féminin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Nombr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25a28"/>
                </a:solidFill>
                <a:latin typeface="Times New Roman"/>
              </a:rPr>
              <a:t>singulier (x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25a28"/>
                </a:solidFill>
                <a:latin typeface="Times New Roman"/>
              </a:rPr>
              <a:t>pluriel (xx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Direction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Demandez à votre partenaire les questions suivantes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Votre partenaire doit répondre en utilisant l’adjectif indiqué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ATTENTION: QUELQUES ADJECTIFS DOIVENT PRÉCÉDÉS L’OBJET QU’ILS MODIFIENT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bureau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2" name="Picture 3" descr="C:\Documents and Settings\Michael\Local Settings\Temporary Internet Files\Content.IE5\M6N0CPZS\MC900353259[1].wmf"/>
          <p:cNvPicPr/>
          <p:nvPr/>
        </p:nvPicPr>
        <p:blipFill>
          <a:blip r:embed="rId1"/>
          <a:stretch/>
        </p:blipFill>
        <p:spPr>
          <a:xfrm>
            <a:off x="6324480" y="3043080"/>
            <a:ext cx="265284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chaîne stéréo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5" name="Picture 2" descr="C:\Documents and Settings\Michael\Local Settings\Temporary Internet Files\Content.IE5\9KICEX3P\MC900250437[1].wmf"/>
          <p:cNvPicPr/>
          <p:nvPr/>
        </p:nvPicPr>
        <p:blipFill>
          <a:blip r:embed="rId1"/>
          <a:stretch/>
        </p:blipFill>
        <p:spPr>
          <a:xfrm>
            <a:off x="6019920" y="2757600"/>
            <a:ext cx="29653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lamp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b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8" name="Picture 2" descr="C:\Documents and Settings\Michael\Local Settings\Temporary Internet Files\Content.IE5\M6N0CPZS\MC900384152[1].wmf"/>
          <p:cNvPicPr/>
          <p:nvPr/>
        </p:nvPicPr>
        <p:blipFill>
          <a:blip r:embed="rId1"/>
          <a:stretch/>
        </p:blipFill>
        <p:spPr>
          <a:xfrm>
            <a:off x="5386320" y="3124080"/>
            <a:ext cx="344160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tapi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..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1" name="Picture 2" descr="C:\Documents and Settings\Michael\Local Settings\Temporary Internet Files\Content.IE5\1X2V9UFE\MC900287192[1].wmf"/>
          <p:cNvPicPr/>
          <p:nvPr/>
        </p:nvPicPr>
        <p:blipFill>
          <a:blip r:embed="rId1"/>
          <a:stretch/>
        </p:blipFill>
        <p:spPr>
          <a:xfrm>
            <a:off x="5867280" y="3178080"/>
            <a:ext cx="327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armoir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4" name="Picture 2" descr="C:\Documents and Settings\Michael\Local Settings\Temporary Internet Files\Content.IE5\4S8EAT2Z\MC900192375[1].wmf"/>
          <p:cNvPicPr/>
          <p:nvPr/>
        </p:nvPicPr>
        <p:blipFill>
          <a:blip r:embed="rId1"/>
          <a:stretch/>
        </p:blipFill>
        <p:spPr>
          <a:xfrm>
            <a:off x="3276720" y="2895480"/>
            <a:ext cx="30621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des(f) 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étagère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joli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7" name="Picture 2" descr="C:\Documents and Settings\Michael\Local Settings\Temporary Internet Files\Content.IE5\85PZP2BU\MC900352391[1].wmf"/>
          <p:cNvPicPr/>
          <p:nvPr/>
        </p:nvPicPr>
        <p:blipFill>
          <a:blip r:embed="rId1"/>
          <a:stretch/>
        </p:blipFill>
        <p:spPr>
          <a:xfrm>
            <a:off x="6553080" y="3124080"/>
            <a:ext cx="18608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commod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80" name="Picture 2" descr="C:\Documents and Settings\Michael\Local Settings\Temporary Internet Files\Content.IE5\TQEQG3QF\MC900215864[1].wmf"/>
          <p:cNvPicPr/>
          <p:nvPr/>
        </p:nvPicPr>
        <p:blipFill>
          <a:blip r:embed="rId1"/>
          <a:stretch/>
        </p:blipFill>
        <p:spPr>
          <a:xfrm>
            <a:off x="6019920" y="2995560"/>
            <a:ext cx="286524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lit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83" name="Picture 2" descr="C:\Documents and Settings\Michael\Local Settings\Temporary Internet Files\Content.IE5\1X2V9UFE\MC900215173[1].wmf"/>
          <p:cNvPicPr/>
          <p:nvPr/>
        </p:nvPicPr>
        <p:blipFill>
          <a:blip r:embed="rId1"/>
          <a:stretch/>
        </p:blipFill>
        <p:spPr>
          <a:xfrm>
            <a:off x="6248520" y="3174840"/>
            <a:ext cx="267948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71600" y="14619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On peut l’organiser comme ceci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bureau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 vieux bureau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3" descr="C:\Documents and Settings\Michael\Local Settings\Temporary Internet Files\Content.IE5\M6N0CPZS\MC900353259[1].wmf"/>
          <p:cNvPicPr/>
          <p:nvPr/>
        </p:nvPicPr>
        <p:blipFill>
          <a:blip r:embed="rId1"/>
          <a:stretch/>
        </p:blipFill>
        <p:spPr>
          <a:xfrm>
            <a:off x="6705720" y="4648320"/>
            <a:ext cx="205740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chaîne stéréo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304920" y="3809880"/>
            <a:ext cx="85341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e nouvelle chaîne stéré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2" descr="C:\Documents and Settings\Michael\Local Settings\Temporary Internet Files\Content.IE5\9KICEX3P\MC900250437[1].wmf"/>
          <p:cNvPicPr/>
          <p:nvPr/>
        </p:nvPicPr>
        <p:blipFill>
          <a:blip r:embed="rId1"/>
          <a:stretch/>
        </p:blipFill>
        <p:spPr>
          <a:xfrm>
            <a:off x="6781680" y="4510080"/>
            <a:ext cx="21733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lamp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b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e belle lamp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2" descr="C:\Documents and Settings\Michael\Local Settings\Temporary Internet Files\Content.IE5\M6N0CPZS\MC900384152[1].wmf"/>
          <p:cNvPicPr/>
          <p:nvPr/>
        </p:nvPicPr>
        <p:blipFill>
          <a:blip r:embed="rId1"/>
          <a:stretch/>
        </p:blipFill>
        <p:spPr>
          <a:xfrm>
            <a:off x="6477120" y="4648320"/>
            <a:ext cx="23857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tapi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..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 grand tap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2" descr="C:\Documents and Settings\Michael\Local Settings\Temporary Internet Files\Content.IE5\1X2V9UFE\MC900287192[1].wmf"/>
          <p:cNvPicPr/>
          <p:nvPr/>
        </p:nvPicPr>
        <p:blipFill>
          <a:blip r:embed="rId1"/>
          <a:stretch/>
        </p:blipFill>
        <p:spPr>
          <a:xfrm>
            <a:off x="6248520" y="4800600"/>
            <a:ext cx="22003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armoir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e vieille armoi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2" descr="C:\Documents and Settings\Michael\Local Settings\Temporary Internet Files\Content.IE5\4S8EAT2Z\MC900192375[1].wmf"/>
          <p:cNvPicPr/>
          <p:nvPr/>
        </p:nvPicPr>
        <p:blipFill>
          <a:blip r:embed="rId1"/>
          <a:stretch/>
        </p:blipFill>
        <p:spPr>
          <a:xfrm>
            <a:off x="6735600" y="228600"/>
            <a:ext cx="24084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des étagère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joli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de jolies étagèr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2" descr="C:\Documents and Settings\Michael\Local Settings\Temporary Internet Files\Content.IE5\85PZP2BU\MC900352391[1].wmf"/>
          <p:cNvPicPr/>
          <p:nvPr/>
        </p:nvPicPr>
        <p:blipFill>
          <a:blip r:embed="rId1"/>
          <a:stretch/>
        </p:blipFill>
        <p:spPr>
          <a:xfrm>
            <a:off x="7238880" y="1349280"/>
            <a:ext cx="15559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commod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304920" y="3733920"/>
            <a:ext cx="8534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e nouvelle commo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2" descr="C:\Documents and Settings\Michael\Local Settings\Temporary Internet Files\Content.IE5\TQEQG3QF\MC900215864[1].wmf"/>
          <p:cNvPicPr/>
          <p:nvPr/>
        </p:nvPicPr>
        <p:blipFill>
          <a:blip r:embed="rId1"/>
          <a:stretch/>
        </p:blipFill>
        <p:spPr>
          <a:xfrm>
            <a:off x="7010280" y="4495680"/>
            <a:ext cx="17989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lit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04920" y="365760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 grand li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2" descr="C:\Documents and Settings\Michael\Local Settings\Temporary Internet Files\Content.IE5\1X2V9UFE\MC900215173[1].wmf"/>
          <p:cNvPicPr/>
          <p:nvPr/>
        </p:nvPicPr>
        <p:blipFill>
          <a:blip r:embed="rId1"/>
          <a:stretch/>
        </p:blipFill>
        <p:spPr>
          <a:xfrm>
            <a:off x="6629400" y="4329000"/>
            <a:ext cx="18414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71600" y="21477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10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pet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pet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pet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71600" y="21477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17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je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je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24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heu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heure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beau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1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b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b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be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b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genti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8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gen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genti</a:t>
            </a:r>
            <a:r>
              <a:rPr b="1" i="1" lang="fr-FR" sz="3200" spc="-1" strike="noStrike" u="sng">
                <a:solidFill>
                  <a:srgbClr val="ff66cc"/>
                </a:solidFill>
                <a:uFillTx/>
                <a:latin typeface="Times New Roman"/>
              </a:rPr>
              <a:t>ll</a:t>
            </a: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gent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genti</a:t>
            </a:r>
            <a:r>
              <a:rPr b="1" i="1" lang="fr-FR" sz="3200" spc="-1" strike="noStrike" u="sng">
                <a:solidFill>
                  <a:srgbClr val="ff66cc"/>
                </a:solidFill>
                <a:uFillTx/>
                <a:latin typeface="Times New Roman"/>
              </a:rPr>
              <a:t>ll</a:t>
            </a: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3-09-04T00:16:15Z</dcterms:modified>
  <cp:revision>93</cp:revision>
  <dc:subject/>
  <dc:title>Allez, viens! – Level 2</dc:title>
</cp:coreProperties>
</file>